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1B1C-6242-4B9E-98F3-0546E066C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8F47-F7F8-4E32-A3B3-2D1D4C9A7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DBE9-C58F-4CDF-B582-212827A3A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79A3-94FB-4190-A4E8-0B3541534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4A0FB-27FD-4ED5-9911-964F49110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E468B-C584-46D2-BF35-3D6C867D4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5E1BA-540E-4EBA-B0B3-DDFDB2A1B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A3190-26C0-4E27-B9A8-74579B4C3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FCFB9-1F19-4734-9AFD-9C32E3D5C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C8D84-2999-4A64-8709-44D1A84C4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292AB-9705-493E-AAD3-06FFF398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F938-6B01-456F-9C58-5A06A6664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7AC7C-D3FA-4370-8E27-8DB0B20D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C0632-3889-404D-A311-3F9F7806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5604C-7383-4629-AB05-BD8F4F9C2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2C306-A9D5-46D9-80E0-661D1E8B5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30BA1-A720-4679-B0B6-E894A3D5F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CB29-3201-4E21-A747-6B9374DF6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75DF-7D7C-45BD-BED5-AB1DD3BCB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8F23-2D80-4DAC-8C12-793E39CE9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3544-A6B6-4463-9E42-9B5AF25F1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7709-DBA4-41A3-A03A-F61F0AC0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A77A-1564-4958-A70A-DF98E23A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62F7-0272-41A4-9A23-D1E15C25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58375-F3D7-4A15-96BE-C7913F36204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815480" y="6628320"/>
            <a:ext cx="5349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06 The McGraw-Hill Companies Inc. Permission Required for Reproduction or Display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86AB7-72E0-42A9-A5D0-B6920DA2696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15480" y="6628320"/>
            <a:ext cx="5349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06 The McGraw-Hill Companies Inc. Permission Required for Reproduction or Display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ff9900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Garamond"/>
              </a:rPr>
              <a:t>Chapter 10 </a:t>
            </a:r>
            <a:endParaRPr b="0" lang="en-US" sz="5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523880" y="55627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Resurgence of Empire in East 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276720" y="990720"/>
            <a:ext cx="3906720" cy="415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9F007-92CD-46E8-8730-CD21DE6069A1}" type="slidenum">
              <a:t>1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aramond"/>
              </a:rPr>
              <a:t>The Sui and Tang dynasties, 589-907 C.E.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11280" y="1600200"/>
            <a:ext cx="792144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521E-7E6D-4AF8-AAB8-8D25E93D4E9E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Tang Decline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vernmental neglect: Emperor obsessed with music, favorite concubi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55 rebellion under An Lushan, former military command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ptures Chang’an, but rebellion crushed by 763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madic Uighur mercenaries invited to suppress rebellion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ighurs are defeated by the Kirghiz who sacked Chang’an and Luoya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 decline continues, rebellions in 9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entury, last emperor abdicates 90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72A5-0116-48FC-897F-8B17CFAB1FD1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Song Dynasty (960-1279 CE)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phasis on administration, industry, education, the ar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litary not emphasiz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on of first emperor, Song Taizu (r. 960-976 CE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er military lea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de emperor by troo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ituted policy of imperial favor for civil servants, expanded meritocra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98F7-5CB5-4FB1-9C80-58410F93BEA3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The Song dynasty, 960-1279 C.E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895400" y="1600200"/>
            <a:ext cx="535320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CC12-77DC-4264-9E02-979DCF1E0580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Song Weaknesses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ze of bureaucracy heavy drain on econom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 peasant rebellions in 1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l inertia prevents reform of bureaucra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vil service leadership of militar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cked military trai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able to contain nomadic attac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rchen conquer, force Song dynasty to Hangzhou, southern China (Southern So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g try to work with the Mongols only to be defeated in battle as the Song were internally factional and suffered from losses in tax revenu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uan Dynasty (Mongo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1306-D7BF-4961-8F29-F95F0E9AFD1B}" type="slidenum">
              <a:t>14</a:t>
            </a:fld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Agricultural Economies of the Tang and Song Dynasties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d Vietnamese fast-ripening rice, 2 crops per yea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ology: iron plows, use of draft anima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il fertilization, improved irrig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er wheels, cana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race farm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E4FD-5E9D-43E2-8972-7AE02D608B75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hinese Political Structure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sing information from Chapter 11 Pages 268-9 design a pictorial reference of the Chinese political system.  These are to be detailed sketches of the growth of the system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dd to not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0BEC-30F3-447D-BF22-9AFBA788F45B}" type="slidenum">
              <a:t>16</a:t>
            </a:fld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Population Growth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57200" y="1600200"/>
          <a:ext cx="4038480" cy="452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4038480" cy="45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lt of increased agricultural produ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fective food distribution syste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ation networks built under Tang and Song dynast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8CA2-ED17-438B-97B2-DA0644050F9F}" type="slidenum">
              <a:t>17</a:t>
            </a:fld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Urbanization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’an world’s most populous city: 2 million residen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thern Song capital Hangzhou: over 1 mill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veral cities over 100,00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6538-44C2-4FE1-AFD4-36C071FF7171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Patriarchal Social Structures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d emphasis on ancestor worshi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aborate grave ritua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ed family gatherings in honor of deceased ancesto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otbinding gains popular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d control by male family memb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4DB9-9A56-4A74-9DBF-F891B3DD4A63}" type="slidenum">
              <a:t>19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The Sui Dynasty (581-618 CE)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onal kingdoms succeed collapse of Han dynasty – Era of the 6 Dynasties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roduction and acceptance of Mahayana Buddhis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ang Jian/Sui Yangdi consolidates control of all of China, initiates Sui Dynas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ssive building projects – canals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3120" indent="-32184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litary labo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3120" indent="-32184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cripted labo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705720" y="4114800"/>
            <a:ext cx="1990440" cy="2343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49F5-DFC5-4374-9EBC-4AED85E805E2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Footbinding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5316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B72D-1845-46D5-8E8F-92B09967FB7D}" type="slidenum">
              <a:t>20</a:t>
            </a:fld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Technology and Industry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celain (“Chinaware”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 of iron production due to use of coke, not coal, in furnac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gricultural tools, weapon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npowder invented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rlier printing techniques refin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veable type by mid-1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entu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t complex Chinese ideographs make wood block technique easi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al technolog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603C-7340-4200-8529-237E160E93FF}" type="slidenum">
              <a:t>21</a:t>
            </a:fld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Emergence of a Market Economy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ying cash:” letters of credit developed to deal with copper coin shortag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missory notes, checks also u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ment of independently produced paper mone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as stable, riots when not hono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vernment claims monopoly on money production in 11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entur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3250-E926-40F0-B1BC-BE169C4D3D2C}" type="slidenum">
              <a:t>22</a:t>
            </a:fld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hina and the Hemispheric Economy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ingly cosmopolitan nature of Chinese citi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nese silk opens up trade routes, but increases local demands for imported luxury good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BBAA-8D37-4EAF-AE0B-09419253E2B1}" type="slidenum">
              <a:t>23</a:t>
            </a:fld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ultural Change in Tang and Song China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lining confidence in Confucianism after collapse of Han dynas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ing popularity of Buddhis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ristianity, Manichaeism, Zoroastrianism, Islam also appea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ele primarily foreign merchant clas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028A-3E21-4BA8-9455-0074A70F0A40}" type="slidenum">
              <a:t>24</a:t>
            </a:fld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Dunhuang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hayana Buddhism especially popular in western China (Gansu province), 600-1000 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ddhist temples, librar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onomic success as converts donate land holding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 popularity through donations of agricultural produce to the poo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F60C-1F9A-4435-90C6-5DB70AB936AC}" type="slidenum">
              <a:t>25</a:t>
            </a:fld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onflicts with Chinese Culture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ddhism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-based (Buddhist teaching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phasis on Metaphysic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cetic ide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libac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l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ucianism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-based (Confucian teaching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oism not text-bas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phasis on ethics, politic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mily-center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re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ial pie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F952-AAC8-48D6-A2FE-932A15C900E0}" type="slidenum">
              <a:t>26</a:t>
            </a:fld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han (Zen) Buddhism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ddhists adapt ideology to Chinese clim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harm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ranslated as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irvana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lated as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uwe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ommodated family lifesty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 son in monastery for ten generations of salvation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ited empahsis on textual study, meditation instea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08D6-0980-45F0-A3E7-9B64F4467346}" type="slidenum">
              <a:t>27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Persecution of Buddhists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oist/Confucian persecution supported in late Tang dynas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40s begins systematic closure of Buddhist temples, expuls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oroastrians, Christians, Manicheans as wel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onomic motive: seizure of large monastic landholding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27DC-DE14-4188-9A61-12AA7677554D}" type="slidenum">
              <a:t>28</a:t>
            </a:fld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Neo-Confucianism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g dynasty refrains from persecuting Buddhists, but favors Confucia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o-Confucians influenced by Buddhist though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hu Xi (1130-1200 CE) important synthesiz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pular to 20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th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entur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E75C-23F2-4F0C-8E4D-DB89AFA6C164}" type="slidenum">
              <a:t>29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The Grand Canal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396252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nded to promote trade between north and south Chin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56280" indent="-31860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hinese rivers flow west-ea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ed network of earlier cana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56280" indent="-31860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0k (1240 mi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6280" indent="-31860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ads on either ba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cceeded only by railroad traffic in 20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entur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343400" y="685800"/>
            <a:ext cx="3962520" cy="514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D76D-D28E-4EF2-AC9A-17FFF717BF29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hina and Korea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lla Dynasty: Tang armies withdraw, Korea recognizes Tang as empero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ly a vassal statue, but highly independ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nese influence on Korean culture pervasiv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D124-048C-4DFE-829F-480B8E276DD6}" type="slidenum">
              <a:t>30</a:t>
            </a:fld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hina and Vietnam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etnamese adaptation to Chinese culture, technolog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t ongoing resentment at political domin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ert independence when Tang dynasty falls in 10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th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entur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FAB0-3254-4FCE-99F5-9A0967F32663}" type="slidenum">
              <a:t>31</a:t>
            </a:fld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hina and Early Japan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nese armies never invade Japa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t Chinese culture pervasiv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itation of Tang administr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blishment of new capital at Nara, hence “Nara Japan” (710-794 C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option of Confucian, Buddhist teaching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t retention of Shinto relig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55C5-0178-484A-A049-D3BAD6663ECB}" type="slidenum">
              <a:t>32</a:t>
            </a:fld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Heian Japan (794-1185 CE)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panese emperor moves court to Heian (Kyoto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t emperor figurehead, real power in hands of Fujiwara cla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ttern in Japanese history: weak emperor, power behind the thro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lps explain longevity of the institu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C8AB-79C7-4524-B4B6-B9C64E192A1C}" type="slidenum">
              <a:t>33</a:t>
            </a:fld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Japanese Literature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luence of Chinese </a:t>
            </a:r>
            <a:r>
              <a:rPr b="0" i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anji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harac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ic curriculum dominated by Chine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ment of hiragana, katakana syllabic alphabe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urt life: </a:t>
            </a:r>
            <a:r>
              <a:rPr b="0" i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Tale of Genj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ten by woman with weak command of Chinese, becomes classic of early Japanese litera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9AF5-7EAB-4032-A0A9-B99C780D3BE2}" type="slidenum">
              <a:t>34</a:t>
            </a:fld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Institution of the </a:t>
            </a:r>
            <a:r>
              <a:rPr b="0" i="1" lang="en-US" sz="4200" spc="-1" strike="noStrike">
                <a:solidFill>
                  <a:srgbClr val="ffffff"/>
                </a:solidFill>
                <a:latin typeface="Garamond"/>
              </a:rPr>
              <a:t>Shogun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vil war between Taira and Minamoto clans in 12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th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entur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amoto leader named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gun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1185 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led from Kamakura, allowed imperial throne to continue in Kyot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8FB5-6ADA-4586-9739-66D534CC4DCC}" type="slidenum">
              <a:t>35</a:t>
            </a:fld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Medieval Japan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amakura (1185-1333 CE) and Muromachi (1336-1573 CE) period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entralized power in hands of warlord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litary authority in hands of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ura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essional warrio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ABBD-F4DB-48F2-85B1-1E0C4F313494}" type="slidenum">
              <a:t>36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The Grande Canal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C781-5EF4-429E-91FD-FD1160C448E0}" type="slidenum">
              <a:t>4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The Tang Dynasty (618-907 CE)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de discontent over conscripted labor in Sui dynas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litary failures in Korea prompt rebell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peror assassinated in 618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ng Dynasty initiat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E98F-825D-4B87-9607-B8BA822F7F0F}" type="slidenum">
              <a:t>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Tang Taizong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ond emperor of Tang dynasty (r. 627-649 CE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rdered two brothers, thrust father aside to take thron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ong rul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 capital at Chang’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w and or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xes, prices 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effective implementation of earlier Sui poli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520E-8885-4A42-B63B-082EC45A03F6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Major achievements of Tang Dynasty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ation and communica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ve postal, courier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qual-field Syste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% of land hereditary ownersh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0% redistributed according to formu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mily size, land fert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ed well until 8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entu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ruption, loss of land to Buddhist monaste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39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60B8-C63B-42AA-A4FA-4A1386FE2F86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Bureaucracy of Merit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erial civil service examina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ucian educational curriculu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bribery, nepotis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t most advance through meri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 loyalty to the dynas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remains strong until early 20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entur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4F0F-196E-4EA6-A892-82B55616A1AC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Tang Military Expansion and Foreign Relations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churia, Korea, Vietnam, Tibe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st occupation of Tibet by Chin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 of the largest expansions of China in its histor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blished tributary relationship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f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na as “Middle Kingdom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kowtow ritu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F837-FB8B-4F5A-9D4D-2EE83051BAE1}" type="slidenum">
              <a:t>9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8T15:23:25Z</dcterms:created>
  <dc:creator>Library</dc:creator>
  <dc:description/>
  <dc:language>en-US</dc:language>
  <cp:lastModifiedBy>ripkensa</cp:lastModifiedBy>
  <dcterms:modified xsi:type="dcterms:W3CDTF">2009-11-25T20:55:13Z</dcterms:modified>
  <cp:revision>27</cp:revision>
  <dc:subject/>
  <dc:title>15. The Resurgence of Empire in East Asia</dc:title>
</cp:coreProperties>
</file>